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7ACE-F4A4-4186-B59B-6056B8AC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A3EE-4AD1-46CD-AA9B-13A77484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E3A0-B152-4426-B0B2-0BB1C66E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05FB-4B24-4605-AFC6-6DAF68BF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8394-D4C2-4F0E-ADA4-9631A2C6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D20F-ECA9-49F7-8AF9-81F022C9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6D35-AFD1-407C-9900-3E29D2BB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00D8-2400-425F-98CC-2891B238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6E54-9208-4C16-8A6E-A74DF8A8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8B89-CAC8-45C3-BAA3-1C39B73D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AF3E-E745-40F8-9EE6-53D58086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559F-6CFB-4062-A45E-FA6150F6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A876-4B15-4DA6-A4B4-2A348D59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4243-BA40-41BF-BC61-A2BA91F8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6AA6-B816-48F2-BC92-F4B90A4D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20F9-44A7-484A-B281-FE4E80C5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CBE7-630E-4C66-840E-9E98DE93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1F2F2-0B00-4D9B-8925-215D26F6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69B7B-5D9C-4439-AEA3-07105FAC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39B50-404D-4492-B32F-205E8CDE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8E700-356C-4E68-8C81-23873029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7DF1D-5464-478D-8C0A-78987611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6C76-8929-49B6-B049-BCEAD523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CC8EE-1C6D-4457-85E6-84911CEB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51EB5-C232-4DFF-A928-5DDA92F4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9424D-7ED4-4E3F-84B9-3F914A48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47D79-0A9E-45DA-A387-C3FDFD81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79CC7-7439-4B58-98D6-F8EB061C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4977E-4A32-440B-99B8-B9630212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E6267-2F91-4E7F-B0AC-C602A3AB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0C219-B76D-4F09-B866-C23F2DDA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A2B90-4691-4C8A-B7F4-EDCC65D7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9E089-64DE-44AA-80EE-B2D8EEE0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EDDE-5945-4148-AFD1-B306F9A7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576A1-65A9-4A47-81E2-D2618324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96B70-444E-4D2A-AE29-2E70DD23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CA652-301F-46E4-B389-439CEA38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B49F9-FEB9-45E3-BA6F-7E4CB621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FFE57-D6E0-4465-8EFC-290FC16C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514E1-AB5D-4173-AFEB-0B574BCA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4C80A-8BCF-4489-A09B-A5B7DD3C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FD4CB-C520-4A3D-B67D-A1002B23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9CD6A-1C3F-4261-B33E-6FB1800B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9D9A-B7B4-4C7A-89E4-4EA81489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D1EB-0CF8-46CA-9F35-B9B5A5B1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A0A1-F6DC-46AE-B0A6-A78946B1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0883-2038-47D4-B244-59AC1FF8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355-7932-48E1-9417-A1D8E183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463D-7A75-4167-A9BF-A9FD3D34C38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8642-EA91-4DCF-B2DD-65B69A2D648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97C3-7D62-4511-8663-B24BB2588AC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9A08-1E7A-4DEB-AC45-CED74134C50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17680" y="1352520"/>
            <a:ext cx="7887960" cy="19144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solidFill>
            <a:srgbClr val="f1fbfd"/>
          </a:solidFill>
          <a:ln w="25560">
            <a:solidFill>
              <a:srgbClr val="000000"/>
            </a:solidFill>
            <a:miter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3495c"/>
                </a:solidFill>
                <a:latin typeface="Constantia"/>
              </a:rPr>
              <a:t>By:  Eric R., Bree, Lauren, and Ariel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d as energy fo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usine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y do they use i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newable resour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most fre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was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esn’t pollute the 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7" descr="http://ga.water.usgs.gov/edu/graphics/wuhytypicalplant.gif"/>
          <p:cNvPicPr/>
          <p:nvPr/>
        </p:nvPicPr>
        <p:blipFill>
          <a:blip r:embed="rId1"/>
          <a:stretch/>
        </p:blipFill>
        <p:spPr>
          <a:xfrm>
            <a:off x="3943440" y="990720"/>
            <a:ext cx="5002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w it is used toda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33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d as electric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plies 10% of the world’s electric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re people are using water pow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ue to the decreasing amount of fossil fue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C:\Documents and Settings\User\Local Settings\Temporary Internet Files\Content.IE5\9YSMW0G9\MPj04387110000[1].jpg"/>
          <p:cNvPicPr/>
          <p:nvPr/>
        </p:nvPicPr>
        <p:blipFill>
          <a:blip r:embed="rId1"/>
          <a:stretch/>
        </p:blipFill>
        <p:spPr>
          <a:xfrm>
            <a:off x="4648320" y="2787480"/>
            <a:ext cx="40384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water cyc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olar energy heats on the surface causing the water to evaporat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is water vapor condenses into clouds and falls back into the surface as precipita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water flows through rivers back into the oceans, where it can evaporate and begin the cycle over again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4" descr="http://members.optusnet.com.au/benjamink/Water/TheWaterCycleWebQuest_files/watercycle.gif"/>
          <p:cNvPicPr/>
          <p:nvPr/>
        </p:nvPicPr>
        <p:blipFill>
          <a:blip r:embed="rId1"/>
          <a:stretch/>
        </p:blipFill>
        <p:spPr>
          <a:xfrm>
            <a:off x="4699080" y="1752480"/>
            <a:ext cx="444492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w water generates pow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dam is built to trap wat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usually in a valley where there is an existing lak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ater is allowed to flow through tunnels in the dam, to tur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turbin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to drive generator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dam is much thicker at the bottom than at the top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pressure of the water increases with depth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ydro-electric power stations can produce a great deal of power very cheaply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4:32:29Z</dcterms:created>
  <dc:creator>Jason</dc:creator>
  <dc:description/>
  <dc:language>en-US</dc:language>
  <cp:lastModifiedBy>Jason</cp:lastModifiedBy>
  <dcterms:modified xsi:type="dcterms:W3CDTF">2009-05-01T00:37:22Z</dcterms:modified>
  <cp:revision>14</cp:revision>
  <dc:subject/>
  <dc:title>Water Power</dc:title>
</cp:coreProperties>
</file>